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AD2-CDE0-4303-8FB2-952FFC8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690-8DB9-4E11-96AA-A65B8D30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827-29DC-433B-90F8-C45FC6FC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48C-2B2F-4E91-978A-13ADFF3C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648-D819-4E61-B5C0-DA77D8C1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562-CCE3-400C-A3F9-3F7B04A9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7A5-7F2A-47BC-AACD-38C08DDB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B4D-0F9A-4B99-8299-6AA01B3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167-ABC1-4EA7-986E-45C20196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901-9C84-4AC0-B03C-A12D24F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984-09D3-45B4-9C03-956CAEC5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833-D96C-4E15-B98F-9F71782A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0F14-81A7-4C75-9205-4746573DAD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4" descr=""/>
          <p:cNvPicPr/>
          <p:nvPr/>
        </p:nvPicPr>
        <p:blipFill>
          <a:blip r:embed="rId2"/>
          <a:stretch/>
        </p:blipFill>
        <p:spPr>
          <a:xfrm>
            <a:off x="-4680" y="0"/>
            <a:ext cx="9161280" cy="687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7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7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3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2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4052880" y="527832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62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3"/>
          <p:cNvSpPr/>
          <p:nvPr/>
        </p:nvSpPr>
        <p:spPr>
          <a:xfrm>
            <a:off x="380880" y="138924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5   What does h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5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文本框 37" descr=""/>
          <p:cNvPicPr/>
          <p:nvPr/>
        </p:nvPicPr>
        <p:blipFill>
          <a:blip r:embed="rId3"/>
          <a:stretch/>
        </p:blipFill>
        <p:spPr>
          <a:xfrm>
            <a:off x="2835360" y="152280"/>
            <a:ext cx="3697200" cy="849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4"/>
          <a:stretch/>
        </p:blipFill>
        <p:spPr>
          <a:xfrm>
            <a:off x="1109520" y="1166760"/>
            <a:ext cx="6924960" cy="45244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4"/>
          <p:cNvSpPr/>
          <p:nvPr/>
        </p:nvSpPr>
        <p:spPr>
          <a:xfrm>
            <a:off x="6046920" y="2789280"/>
            <a:ext cx="13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st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5429160" y="352728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, they w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6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文本框 37" descr=""/>
          <p:cNvPicPr/>
          <p:nvPr/>
        </p:nvPicPr>
        <p:blipFill>
          <a:blip r:embed="rId3"/>
          <a:stretch/>
        </p:blipFill>
        <p:spPr>
          <a:xfrm>
            <a:off x="2398680" y="57240"/>
            <a:ext cx="4848120" cy="84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4"/>
          <a:stretch/>
        </p:blipFill>
        <p:spPr>
          <a:xfrm>
            <a:off x="996840" y="1425600"/>
            <a:ext cx="7212240" cy="400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3" name="矩形 3"/>
          <p:cNvSpPr/>
          <p:nvPr/>
        </p:nvSpPr>
        <p:spPr>
          <a:xfrm>
            <a:off x="1019160" y="1049400"/>
            <a:ext cx="647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听不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游戏规则：同桌结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 has a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（假装听不见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rry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idn’t hea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...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 has a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IMG_256"/>
          <p:cNvPicPr/>
          <p:nvPr/>
        </p:nvPicPr>
        <p:blipFill>
          <a:blip r:embed="rId4"/>
          <a:stretch/>
        </p:blipFill>
        <p:spPr>
          <a:xfrm>
            <a:off x="1576440" y="4449600"/>
            <a:ext cx="1708200" cy="18226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3" descr="IMG_256"/>
          <p:cNvPicPr/>
          <p:nvPr/>
        </p:nvPicPr>
        <p:blipFill>
          <a:blip r:embed="rId5"/>
          <a:stretch/>
        </p:blipFill>
        <p:spPr>
          <a:xfrm>
            <a:off x="3908520" y="4727520"/>
            <a:ext cx="1703160" cy="1523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IMG_256"/>
          <p:cNvPicPr/>
          <p:nvPr/>
        </p:nvPicPr>
        <p:blipFill>
          <a:blip r:embed="rId6"/>
          <a:stretch/>
        </p:blipFill>
        <p:spPr>
          <a:xfrm>
            <a:off x="6075360" y="4462560"/>
            <a:ext cx="1886040" cy="173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IMG_256"/>
          <p:cNvPicPr/>
          <p:nvPr/>
        </p:nvPicPr>
        <p:blipFill>
          <a:blip r:embed="rId7"/>
          <a:stretch/>
        </p:blipFill>
        <p:spPr>
          <a:xfrm>
            <a:off x="6554880" y="1467000"/>
            <a:ext cx="2347920" cy="2138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:\Users\Administrator\Desktop\枫叶副本.gif"/>
          <p:cNvPicPr/>
          <p:nvPr/>
        </p:nvPicPr>
        <p:blipFill>
          <a:blip r:embed="rId8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8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6513480" y="1147680"/>
            <a:ext cx="1838520" cy="451080"/>
            <a:chOff x="6513480" y="1147680"/>
            <a:chExt cx="1838520" cy="451080"/>
          </a:xfrm>
        </p:grpSpPr>
        <p:sp>
          <p:nvSpPr>
            <p:cNvPr id="184" name="矩形 24"/>
            <p:cNvSpPr/>
            <p:nvPr/>
          </p:nvSpPr>
          <p:spPr>
            <a:xfrm>
              <a:off x="6534000" y="1147680"/>
              <a:ext cx="1818000" cy="45108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17"/>
            <p:cNvSpPr/>
            <p:nvPr/>
          </p:nvSpPr>
          <p:spPr>
            <a:xfrm>
              <a:off x="6513480" y="1172520"/>
              <a:ext cx="183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28"/>
          <p:cNvSpPr/>
          <p:nvPr/>
        </p:nvSpPr>
        <p:spPr>
          <a:xfrm>
            <a:off x="1055520" y="1100160"/>
            <a:ext cx="61772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 am good ________ ma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n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She is a singer. She is good at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ing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ing            C. s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3281400" y="192564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5713560" y="313848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112760" y="4289400"/>
            <a:ext cx="7491600" cy="1994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"/>
          <p:cNvSpPr/>
          <p:nvPr/>
        </p:nvSpPr>
        <p:spPr>
          <a:xfrm>
            <a:off x="1940040" y="4289400"/>
            <a:ext cx="6535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第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小题我们要熟记短语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 good 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所以填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第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小题根据句意“她是一位歌唱家，她擅长唱歌。”可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错误的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 good 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接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­ing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形式，所以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9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6513480" y="1147680"/>
            <a:ext cx="1838520" cy="451080"/>
            <a:chOff x="6513480" y="1147680"/>
            <a:chExt cx="1838520" cy="451080"/>
          </a:xfrm>
        </p:grpSpPr>
        <p:sp>
          <p:nvSpPr>
            <p:cNvPr id="197" name="矩形 24"/>
            <p:cNvSpPr/>
            <p:nvPr/>
          </p:nvSpPr>
          <p:spPr>
            <a:xfrm>
              <a:off x="6534000" y="1147680"/>
              <a:ext cx="1818000" cy="45108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7"/>
            <p:cNvSpPr/>
            <p:nvPr/>
          </p:nvSpPr>
          <p:spPr>
            <a:xfrm>
              <a:off x="6513480" y="1172520"/>
              <a:ext cx="183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28"/>
          <p:cNvSpPr/>
          <p:nvPr/>
        </p:nvSpPr>
        <p:spPr>
          <a:xfrm>
            <a:off x="1071720" y="1608120"/>
            <a:ext cx="754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How do they________ them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u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us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Please walk _____________. It’s time for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quick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3554280" y="1884240"/>
            <a:ext cx="4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3840120" y="334008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386000" y="4659480"/>
            <a:ext cx="478476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2212920" y="4659480"/>
            <a:ext cx="4173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quickl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lk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6513480" y="1147680"/>
            <a:ext cx="1838520" cy="451080"/>
            <a:chOff x="6513480" y="1147680"/>
            <a:chExt cx="1838520" cy="451080"/>
          </a:xfrm>
        </p:grpSpPr>
        <p:sp>
          <p:nvSpPr>
            <p:cNvPr id="210" name="矩形 24"/>
            <p:cNvSpPr/>
            <p:nvPr/>
          </p:nvSpPr>
          <p:spPr>
            <a:xfrm>
              <a:off x="6534000" y="1147680"/>
              <a:ext cx="1818000" cy="45108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7"/>
            <p:cNvSpPr/>
            <p:nvPr/>
          </p:nvSpPr>
          <p:spPr>
            <a:xfrm>
              <a:off x="6513480" y="1172520"/>
              <a:ext cx="183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28"/>
          <p:cNvSpPr/>
          <p:nvPr/>
        </p:nvSpPr>
        <p:spPr>
          <a:xfrm>
            <a:off x="1095480" y="1425600"/>
            <a:ext cx="67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翻译下列句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陈杰擅长弹钢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擅长英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1397160" y="3125880"/>
            <a:ext cx="55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en Jie is good at playing the p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471680" y="4613400"/>
            <a:ext cx="30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’m good at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1009800" y="155592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033560" y="3178080"/>
            <a:ext cx="73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o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停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2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7" name="矩形 24"/>
          <p:cNvSpPr/>
          <p:nvPr/>
        </p:nvSpPr>
        <p:spPr>
          <a:xfrm>
            <a:off x="1149480" y="21668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5"/>
          <p:cNvSpPr/>
          <p:nvPr/>
        </p:nvSpPr>
        <p:spPr>
          <a:xfrm>
            <a:off x="1144440" y="3695760"/>
            <a:ext cx="44640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1189080" y="1868400"/>
            <a:ext cx="703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单词，必须达到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76200" y="5548320"/>
            <a:ext cx="865080" cy="858960"/>
          </a:xfrm>
          <a:prstGeom prst="rect">
            <a:avLst/>
          </a:prstGeom>
          <a:ln w="0">
            <a:noFill/>
          </a:ln>
        </p:spPr>
      </p:pic>
      <p:sp>
        <p:nvSpPr>
          <p:cNvPr id="233" name="矩形 7"/>
          <p:cNvSpPr/>
          <p:nvPr/>
        </p:nvSpPr>
        <p:spPr>
          <a:xfrm>
            <a:off x="1163520" y="1446120"/>
            <a:ext cx="764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 Fang. Let’s go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 F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ry. Xiao Yu, my father will come to ge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! What does your fa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 F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ther is a police officer. What about your f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ther is a coach. My grandfather is a scien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 F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ncle is a postman, but he wants to be a scien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76200" y="5548320"/>
            <a:ext cx="865080" cy="858960"/>
          </a:xfrm>
          <a:prstGeom prst="rect">
            <a:avLst/>
          </a:prstGeom>
          <a:ln w="0">
            <a:noFill/>
          </a:ln>
        </p:spPr>
      </p:pic>
      <p:sp>
        <p:nvSpPr>
          <p:cNvPr id="237" name="矩形 7"/>
          <p:cNvSpPr/>
          <p:nvPr/>
        </p:nvSpPr>
        <p:spPr>
          <a:xfrm>
            <a:off x="1163520" y="1446120"/>
            <a:ext cx="764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 Fang. Let’s go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 F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ry. Xiao Yu, my father will come to ge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! What does your fa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 F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ther is a police officer. What about your f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ao Yu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ther is a coach. My grandfather is a scien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 Fa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ncle is a postman, but he wants to be a scien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72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73" name="同侧圆角矩形 7"/>
          <p:cNvSpPr/>
          <p:nvPr/>
        </p:nvSpPr>
        <p:spPr>
          <a:xfrm flipV="1">
            <a:off x="501480" y="2567520"/>
            <a:ext cx="5673960" cy="177156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75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806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259240"/>
            <a:ext cx="173988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477720" y="2894040"/>
            <a:ext cx="58197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Read and write ~ Story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4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矩形 12" descr=""/>
          <p:cNvPicPr/>
          <p:nvPr/>
        </p:nvPicPr>
        <p:blipFill>
          <a:blip r:embed="rId5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8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文本框 37" descr=""/>
          <p:cNvPicPr/>
          <p:nvPr/>
        </p:nvPicPr>
        <p:blipFill>
          <a:blip r:embed="rId3"/>
          <a:stretch/>
        </p:blipFill>
        <p:spPr>
          <a:xfrm>
            <a:off x="2330280" y="152280"/>
            <a:ext cx="4791240" cy="84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"/>
          <p:cNvPicPr/>
          <p:nvPr/>
        </p:nvPicPr>
        <p:blipFill>
          <a:blip r:embed="rId4"/>
          <a:stretch/>
        </p:blipFill>
        <p:spPr>
          <a:xfrm>
            <a:off x="1303200" y="1139760"/>
            <a:ext cx="6650280" cy="4479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5216400" y="140652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文本框 37" descr=""/>
          <p:cNvPicPr/>
          <p:nvPr/>
        </p:nvPicPr>
        <p:blipFill>
          <a:blip r:embed="rId3"/>
          <a:stretch/>
        </p:blipFill>
        <p:spPr>
          <a:xfrm>
            <a:off x="2330280" y="152280"/>
            <a:ext cx="4791240" cy="84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"/>
          <p:cNvPicPr/>
          <p:nvPr/>
        </p:nvPicPr>
        <p:blipFill>
          <a:blip r:embed="rId4"/>
          <a:stretch/>
        </p:blipFill>
        <p:spPr>
          <a:xfrm>
            <a:off x="1044720" y="1905120"/>
            <a:ext cx="691488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"/>
          <p:cNvPicPr/>
          <p:nvPr/>
        </p:nvPicPr>
        <p:blipFill>
          <a:blip r:embed="rId5"/>
          <a:stretch/>
        </p:blipFill>
        <p:spPr>
          <a:xfrm>
            <a:off x="4587840" y="3195720"/>
            <a:ext cx="77148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"/>
          <p:cNvPicPr/>
          <p:nvPr/>
        </p:nvPicPr>
        <p:blipFill>
          <a:blip r:embed="rId6"/>
          <a:stretch/>
        </p:blipFill>
        <p:spPr>
          <a:xfrm>
            <a:off x="5573880" y="3174840"/>
            <a:ext cx="1037880" cy="35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"/>
          <p:cNvPicPr/>
          <p:nvPr/>
        </p:nvPicPr>
        <p:blipFill>
          <a:blip r:embed="rId7"/>
          <a:stretch/>
        </p:blipFill>
        <p:spPr>
          <a:xfrm>
            <a:off x="6703920" y="3201840"/>
            <a:ext cx="94320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"/>
          <p:cNvPicPr/>
          <p:nvPr/>
        </p:nvPicPr>
        <p:blipFill>
          <a:blip r:embed="rId8"/>
          <a:stretch/>
        </p:blipFill>
        <p:spPr>
          <a:xfrm>
            <a:off x="5564160" y="3603600"/>
            <a:ext cx="1000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"/>
          <p:cNvPicPr/>
          <p:nvPr/>
        </p:nvPicPr>
        <p:blipFill>
          <a:blip r:embed="rId9"/>
          <a:stretch/>
        </p:blipFill>
        <p:spPr>
          <a:xfrm>
            <a:off x="6715080" y="3613320"/>
            <a:ext cx="971640" cy="33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10"/>
          <a:stretch/>
        </p:blipFill>
        <p:spPr>
          <a:xfrm>
            <a:off x="4575240" y="4091040"/>
            <a:ext cx="63828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"/>
          <p:cNvPicPr/>
          <p:nvPr/>
        </p:nvPicPr>
        <p:blipFill>
          <a:blip r:embed="rId11"/>
          <a:stretch/>
        </p:blipFill>
        <p:spPr>
          <a:xfrm>
            <a:off x="5570640" y="4057560"/>
            <a:ext cx="91440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:\Users\Administrator\Desktop\枫叶副本.gif"/>
          <p:cNvPicPr/>
          <p:nvPr/>
        </p:nvPicPr>
        <p:blipFill>
          <a:blip r:embed="rId12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文本框 37" descr=""/>
          <p:cNvPicPr/>
          <p:nvPr/>
        </p:nvPicPr>
        <p:blipFill>
          <a:blip r:embed="rId3"/>
          <a:stretch/>
        </p:blipFill>
        <p:spPr>
          <a:xfrm>
            <a:off x="2330280" y="152280"/>
            <a:ext cx="4791240" cy="84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136520" y="1127160"/>
            <a:ext cx="7078680" cy="459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7"/>
          <p:cNvSpPr/>
          <p:nvPr/>
        </p:nvSpPr>
        <p:spPr>
          <a:xfrm>
            <a:off x="3273480" y="1704960"/>
            <a:ext cx="475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 good at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学得，做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好，擅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8"/>
          <p:cNvSpPr/>
          <p:nvPr/>
        </p:nvSpPr>
        <p:spPr>
          <a:xfrm>
            <a:off x="1397160" y="177336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9"/>
          <p:cNvSpPr/>
          <p:nvPr/>
        </p:nvSpPr>
        <p:spPr>
          <a:xfrm>
            <a:off x="1584360" y="17431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4"/>
          <a:stretch/>
        </p:blipFill>
        <p:spPr>
          <a:xfrm>
            <a:off x="561960" y="163656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2498760" y="2606760"/>
            <a:ext cx="637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od 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接名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od at Englis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擅长英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3"/>
          <p:cNvSpPr/>
          <p:nvPr/>
        </p:nvSpPr>
        <p:spPr>
          <a:xfrm>
            <a:off x="1674360" y="283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4" descr="花盆.png"/>
          <p:cNvPicPr/>
          <p:nvPr/>
        </p:nvPicPr>
        <p:blipFill>
          <a:blip r:embed="rId5"/>
          <a:stretch/>
        </p:blipFill>
        <p:spPr>
          <a:xfrm>
            <a:off x="1254240" y="2879640"/>
            <a:ext cx="322200" cy="370080"/>
          </a:xfrm>
          <a:prstGeom prst="rect">
            <a:avLst/>
          </a:prstGeom>
          <a:ln w="0">
            <a:noFill/>
          </a:ln>
        </p:spPr>
      </p:pic>
      <p:sp>
        <p:nvSpPr>
          <p:cNvPr id="121" name="矩形 1"/>
          <p:cNvSpPr/>
          <p:nvPr/>
        </p:nvSpPr>
        <p:spPr>
          <a:xfrm>
            <a:off x="2419200" y="4043520"/>
            <a:ext cx="577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od 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接动词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­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od at playing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good at football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擅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足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31840" y="4181400"/>
            <a:ext cx="1029240" cy="642600"/>
            <a:chOff x="1131840" y="4181400"/>
            <a:chExt cx="1029240" cy="642600"/>
          </a:xfrm>
        </p:grpSpPr>
        <p:sp>
          <p:nvSpPr>
            <p:cNvPr id="123" name="矩形 16"/>
            <p:cNvSpPr/>
            <p:nvPr/>
          </p:nvSpPr>
          <p:spPr>
            <a:xfrm>
              <a:off x="1614600" y="418140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8" descr=""/>
            <p:cNvPicPr/>
            <p:nvPr/>
          </p:nvPicPr>
          <p:blipFill>
            <a:blip r:embed="rId6"/>
            <a:stretch/>
          </p:blipFill>
          <p:spPr>
            <a:xfrm>
              <a:off x="1131840" y="4260240"/>
              <a:ext cx="323280" cy="47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2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7"/>
          <p:cNvSpPr/>
          <p:nvPr/>
        </p:nvSpPr>
        <p:spPr>
          <a:xfrm>
            <a:off x="3444840" y="15652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停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8"/>
          <p:cNvSpPr/>
          <p:nvPr/>
        </p:nvSpPr>
        <p:spPr>
          <a:xfrm>
            <a:off x="1531800" y="1555920"/>
            <a:ext cx="17780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9"/>
          <p:cNvSpPr/>
          <p:nvPr/>
        </p:nvSpPr>
        <p:spPr>
          <a:xfrm>
            <a:off x="1827360" y="1549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9" descr=""/>
          <p:cNvPicPr/>
          <p:nvPr/>
        </p:nvPicPr>
        <p:blipFill>
          <a:blip r:embed="rId4"/>
          <a:stretch/>
        </p:blipFill>
        <p:spPr>
          <a:xfrm>
            <a:off x="752400" y="14400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727200" y="2152800"/>
            <a:ext cx="75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英语句子一般根据意群来停顿。一个句子可根据意思和语法结构分成若干小段，每一小段称之为一个意群。意群可以是一个词，一个词组或短语，也可以是并列句的一个分句或复合句的一个主句或从句等，我们可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/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划分句子的意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2" name="矩形 18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676440" y="1806480"/>
            <a:ext cx="785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360" indent="-126036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n Papa Westray//, Scotland//, the children go to  school by ferry//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360" indent="-126036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苏格兰的帕帕韦斯特雷岛，孩子们也乘轮渡去上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360" indent="-126036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We eat mooncakes// and tell stories// about the mo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360" indent="-126036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吃月饼并讲关于月饼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文本框 37" descr=""/>
          <p:cNvPicPr/>
          <p:nvPr/>
        </p:nvPicPr>
        <p:blipFill>
          <a:blip r:embed="rId3"/>
          <a:stretch/>
        </p:blipFill>
        <p:spPr>
          <a:xfrm>
            <a:off x="2835360" y="152280"/>
            <a:ext cx="3697200" cy="849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"/>
          <p:cNvPicPr/>
          <p:nvPr/>
        </p:nvPicPr>
        <p:blipFill>
          <a:blip r:embed="rId4"/>
          <a:stretch/>
        </p:blipFill>
        <p:spPr>
          <a:xfrm>
            <a:off x="1119240" y="1224000"/>
            <a:ext cx="6905520" cy="4410000"/>
          </a:xfrm>
          <a:prstGeom prst="rect">
            <a:avLst/>
          </a:prstGeom>
          <a:ln w="0">
            <a:noFill/>
          </a:ln>
        </p:spPr>
      </p:pic>
      <p:sp>
        <p:nvSpPr>
          <p:cNvPr id="151" name="直接连接符 2"/>
          <p:cNvSpPr/>
          <p:nvPr/>
        </p:nvSpPr>
        <p:spPr>
          <a:xfrm>
            <a:off x="3772080" y="2781360"/>
            <a:ext cx="1342800" cy="1600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4"/>
          <p:cNvSpPr/>
          <p:nvPr/>
        </p:nvSpPr>
        <p:spPr>
          <a:xfrm flipV="1">
            <a:off x="3772080" y="2781360"/>
            <a:ext cx="1342800" cy="799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6"/>
          <p:cNvSpPr/>
          <p:nvPr/>
        </p:nvSpPr>
        <p:spPr>
          <a:xfrm flipV="1">
            <a:off x="3772080" y="3580920"/>
            <a:ext cx="1342800" cy="800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42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